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BD5-0DCA-4292-BFA9-E7898569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557-F390-423D-873A-06CE4662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B5B-3E39-405D-BC55-D4EEA871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60C-B531-4096-A6E7-E96AF548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B042-A7C7-4EAC-BD29-C8BDCA7C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FF18-F304-4758-9FA7-880B6725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252A-42D2-4261-9EB2-B2723442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57C9-B5A4-4C05-8B32-2D11249B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B3A5-3985-48FD-B822-1B9E9825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98C5-2796-4D8B-83B1-7C434562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6FE9-9436-4353-AFC0-51ECBD30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552-F3B1-40FF-B380-43610211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FD7C-DD44-48E7-8A1A-62CD6754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D977-AB9F-472D-9682-E27B3BF7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229A-6E15-4152-B3A1-3DF46111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9AF6-33F6-4799-A6C5-3BAA01AB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CC6F-247F-427A-9FEE-6DC84975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6818-4ECC-45D7-9F0C-FE4B4E14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1555-BB30-4AD3-9380-89C3A321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EDE0-F93C-4B58-8537-4F4FB145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6D13-3197-4276-9124-DD95CB5E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6622-60CE-4558-9857-E1A7D682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E6E-DE69-453F-97D6-32C821B2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3E7D-4FEF-447A-8F6D-04F4392B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1C94-FA13-4288-B385-4D5D0D34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BA446-29E3-4059-8B77-ED4D4DE7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435A5-3810-4103-A1CE-85C4F136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825E-E323-46F2-8688-7F803862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288D-B604-40C1-91D1-A0EA9953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BBF3-90EA-42F7-BA81-DFA51337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9C35C-9F5A-464E-865D-A3B3B86A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27619-A805-4C9F-AAEB-3A97C625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45B83C-96E0-43EF-8064-6C9C42F2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E85-3A44-4939-8473-99549846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FE0E5-DE9A-495A-8112-7969ED94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E105F-F58C-4A8B-9290-D0500B19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B47C8-F7B8-444C-AF74-56AD982E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8C029-31F9-4A1C-B5DF-6C6D2D46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E0BE1-7164-49A1-95A7-1E6BC664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A8DB1-BC93-4EA9-BAE7-D9655853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91366-7146-420E-8593-2CD29F68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708A16-F6EF-4C85-90C6-25786BE0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FDD3E2-26A8-4953-AE8F-192E63AE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804BD-E9AE-49B2-B58D-BE635B50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95F-6AD0-414A-AD83-557A30E9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8BAEC-81B0-4E89-85A9-3CCD6436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F00B1-7EF2-4614-8A37-CC78012D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8015C-9458-4DCD-8654-757925DC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C33CF-8B03-482B-9F38-81FFA427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0203F-7E83-4CB3-BDF2-DF3438F0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F329C-0384-479B-8E29-B797AE90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9F586-64E8-4841-ACCA-C1937F99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ABD0C-301B-4E02-9841-932EC239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B22E4-4C71-4A30-A0C7-1A9648AB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F62E2-4A3A-41F3-99F5-AD3CA932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9DA-A543-4CB6-AF82-4DA18AFB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E3A8B-2418-43D1-A1AD-F98B55CB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64CFC-C788-4A6D-8822-8E8FF899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8AA64-3A40-4E3D-A09A-CB59FC15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FAD7-B098-4C37-9937-50AB9EFB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A81E4-DC89-419F-96AA-259DC441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54A6B-D414-4901-A74F-F883CACC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2CE2F-4D78-40F3-A485-8438E5F4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5B57-8CB3-4B3A-9D7D-9725CF1C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41A97-61D2-463D-9535-45E23D13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79907-B380-4CF9-A565-45B15ED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F6C-D985-48B5-B8A3-1D5FA773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AA8B3-2FDB-4739-B6FA-CF78CD70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CB27-05CC-4DE4-86E4-708C6497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17A86-BD1D-403B-B64E-DFCD1BAA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15937-D41B-4C00-BBEE-ACB554B6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37203-D726-40FD-BF59-92D13543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56EB6-0B33-4693-85E7-C113EF4C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173A8-A46B-4789-A44E-AD0B03D4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C3DAE-D494-4221-AF10-87778678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BE776-17F5-43BF-853C-D7BC8BF7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36BF4-6646-426C-9D29-9FD62607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EF0-8735-45D1-ABD4-94A5151D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7957D-B3B1-4118-AE27-82CA0E2F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B76AB-2AB8-491F-8D3B-7D99AA9E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A1389-C6CC-49B7-BD0A-C83EFFCD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1053D-AA32-4AA0-A27A-B7D98072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EF43E-7105-4002-8232-FB0846AB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1D837-E180-44F5-A5CB-0DC2E95C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CB61E-54E9-45DC-B292-A94ED99D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17210-D20A-44DD-8DD7-044F36A0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A0631-5981-430A-82AE-78D669C0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CB9F7-88DE-453B-B51D-FFF63342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17B-A686-45B1-9307-D703DC53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0F97-92FA-4049-A867-E1896B54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A5FCA-067A-41C8-B01F-FEEA95E6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07E39-A8E8-4D58-BD1B-D014CA35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92917-1F79-452B-91C4-5795C5E2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A1F01-C034-42EA-BF12-C18B5C8B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9DDA9-FDC0-4120-BB20-0D642A8A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B8C01-7D19-43D9-B779-396518ED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D447-FB53-4B0A-A2E6-70E3AD82E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17D8-BEF6-49D4-9F03-59F99B357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7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2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5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7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8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9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0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1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3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4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5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6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7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8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0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3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4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2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3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7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8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3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4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5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6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7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9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0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3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9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97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8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0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1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3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4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6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7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8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2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3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5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6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9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1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2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3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7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8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3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5C2E-E217-4958-80E2-EFC9A92D9EA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9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EA9E-139C-4509-9C5A-A39B8194C4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6B05-391D-4D45-AB23-9515CE093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9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C237-E6ED-4BF4-BC58-AE719AC13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475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476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8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479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8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2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3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84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85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87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8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0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9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9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8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0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2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0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5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06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0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1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4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15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1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2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6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2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3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1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3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5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36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7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8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39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0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4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47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8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49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50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1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52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53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4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55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56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7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58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59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0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1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2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3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4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65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6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7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68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9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0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1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2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3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74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5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6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77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8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9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8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1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58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8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8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5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8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9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92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593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8714-B575-4DF6-9E79-A598E91DD85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9334-B54F-4211-9217-7B7FEA53A6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epartments.bucknell.edu/history/carnegie/plato/plato_bust.jpg" TargetMode="External"/><Relationship Id="rId2" Type="http://schemas.openxmlformats.org/officeDocument/2006/relationships/hyperlink" Target="http://static.newworldencyclopedia.org/4/4e/Epikur.jpg" TargetMode="External"/><Relationship Id="rId3" Type="http://schemas.openxmlformats.org/officeDocument/2006/relationships/hyperlink" Target="http://www.liberal-vision.org/wp-content/uploads/2009/12/aristotle.jpg" TargetMode="External"/><Relationship Id="rId4" Type="http://schemas.openxmlformats.org/officeDocument/2006/relationships/hyperlink" Target="http://www.everydayminimalist.com/wp-content/uploads/2010/05/socrates.jpg" TargetMode="External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5" descr="ancgrmpa3"/>
          <p:cNvPicPr/>
          <p:nvPr/>
        </p:nvPicPr>
        <p:blipFill>
          <a:blip r:embed="rId1"/>
          <a:stretch/>
        </p:blipFill>
        <p:spPr>
          <a:xfrm>
            <a:off x="304920" y="1905120"/>
            <a:ext cx="3105000" cy="43527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4724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103"/>
                </a:solidFill>
                <a:latin typeface="Arial Black"/>
              </a:rPr>
              <a:t>Ancient Greek  Philosoph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1828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ookman Old Style"/>
              </a:rPr>
              <a:t>By: Yangji Sherp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ookman Old Style"/>
              </a:rPr>
              <a:t>An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ookman Old Style"/>
              </a:rPr>
              <a:t>Jianna Almeid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ookman Old Style"/>
              </a:rPr>
              <a:t>6-P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5" descr="atheenseschool"/>
          <p:cNvPicPr/>
          <p:nvPr/>
        </p:nvPicPr>
        <p:blipFill>
          <a:blip r:embed="rId2"/>
          <a:stretch/>
        </p:blipFill>
        <p:spPr>
          <a:xfrm>
            <a:off x="3886200" y="1523880"/>
            <a:ext cx="4416480" cy="39531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olden Age Philosoph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thens philosophers teach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5" descr="socrates"/>
          <p:cNvPicPr/>
          <p:nvPr/>
        </p:nvPicPr>
        <p:blipFill>
          <a:blip r:embed="rId1"/>
          <a:stretch/>
        </p:blipFill>
        <p:spPr>
          <a:xfrm>
            <a:off x="4800600" y="1219320"/>
            <a:ext cx="3594240" cy="54007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crat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other Greek Philosophe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5" descr="sad-face"/>
          <p:cNvPicPr/>
          <p:nvPr/>
        </p:nvPicPr>
        <p:blipFill>
          <a:blip r:embed="rId1"/>
          <a:stretch/>
        </p:blipFill>
        <p:spPr>
          <a:xfrm>
            <a:off x="2057400" y="1523880"/>
            <a:ext cx="4667400" cy="459108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crates Di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6" dur="2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5" descr="plato_bust"/>
          <p:cNvPicPr/>
          <p:nvPr/>
        </p:nvPicPr>
        <p:blipFill>
          <a:blip r:embed="rId1"/>
          <a:stretch/>
        </p:blipFill>
        <p:spPr>
          <a:xfrm>
            <a:off x="2209680" y="2065320"/>
            <a:ext cx="4572000" cy="479268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la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an Ancient Greek Philosop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5" descr="aristotle"/>
          <p:cNvPicPr/>
          <p:nvPr/>
        </p:nvPicPr>
        <p:blipFill>
          <a:blip r:embed="rId1"/>
          <a:stretch/>
        </p:blipFill>
        <p:spPr>
          <a:xfrm>
            <a:off x="4876920" y="1219320"/>
            <a:ext cx="3848040" cy="502920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was another Ancient Greek Philosophe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5" descr="Epikur"/>
          <p:cNvPicPr/>
          <p:nvPr/>
        </p:nvPicPr>
        <p:blipFill>
          <a:blip r:embed="rId1"/>
          <a:stretch/>
        </p:blipFill>
        <p:spPr>
          <a:xfrm>
            <a:off x="5638680" y="1295280"/>
            <a:ext cx="3372120" cy="48006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cur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was an Ancient Gree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hilosophe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www.departments.bucknell.edu/history/carnegie/plato/plato_bust.jpg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static.newworldencyclopedia.org/4/4e/Epikur.jp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www.liberal-vision.org/wp-content/uploads/2009/12/aristotle.jp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http://www.everydayminimalist.com/wp-content/uploads/2010/05/socrates.jp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21stcenturymed.org/sad-face.jp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historyonthenet.com/shop/images/Display/ancgrmpa3.jp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ancientgreece.com/s/People/Aristotle/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ancientgreece.com/s/People/Plato/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ancientgreece.com/s/People/Epicurus/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*Social Studies textbook*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5000" fill="hold"/>
                                        <p:tgtEl>
                                          <p:spTgt spid="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5000" fill="hold"/>
                                        <p:tgtEl>
                                          <p:spTgt spid="7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7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4:24:26Z</dcterms:created>
  <dc:creator>Administrator</dc:creator>
  <dc:description/>
  <dc:language>en-US</dc:language>
  <cp:lastModifiedBy>Franklin Township School</cp:lastModifiedBy>
  <dcterms:modified xsi:type="dcterms:W3CDTF">2010-12-21T13:53:49Z</dcterms:modified>
  <cp:revision>5</cp:revision>
  <dc:subject/>
  <dc:title>Slide 1</dc:title>
</cp:coreProperties>
</file>